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BCC-69A3-4EC5-93FF-3D879482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D13-7B6A-4204-A36F-52CB7F7F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64C-27F8-4461-8DA7-3821D01A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970-EEB3-4998-8B69-1C7A2EF8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5500-0F12-4382-B6D0-66AC5582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FE63-A23D-404D-91F6-282331EB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9E11-CA8A-4E29-92F0-D34F20DA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D25A-7DC2-4AD0-A281-D7FE53BD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A1C1-1C1F-4C26-9069-5777738A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FE19-84C8-4BB5-A1E8-0C3BC7E6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4461-208D-4E96-9EA5-9272FB29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F0C-437F-43C5-9D44-BF3F3183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1D49-0024-4AB0-AE3F-54A5B8BF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48E0-6C2B-44A9-8807-D6F9FDD1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8636-4742-4CB3-A2E4-8A79B63D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00C4-B0B2-4353-A5E9-42472B68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C107-B909-4B8D-8846-2EC20A11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033-C548-4CE6-9680-076C74C5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43D-D3D6-4A69-AF51-695CFA2D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07D-7C38-43CF-B746-A6D2E0BF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1A2-7FA1-4F2F-8897-A36F3048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143-1B81-42F5-9D4D-0D9B958D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E70-FCC6-4B9F-86BA-4C9FB8FD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E0A-75B7-4B0F-8932-952704B9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1CC5-AC0F-416D-907D-8B61A264FC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D344-F8FD-4574-90BB-E92D47BDDD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428760"/>
            <a:ext cx="78930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ФИЗИЧЕСКОЙ КУЛЬТУР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СПОРТА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ФЕДЕРАЦИЯ ЛЕГКОЙ АТЛЕТИКИ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2857680"/>
            <a:ext cx="7057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바탕"/>
              </a:rPr>
              <a:t>Чемпионат и первенство ЮФО, С-КФО среди молодежи (93-95 гг.р.), юниоров (96-97 гг.р.), юношей и девушек (98-99 гг.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6-07.06.2015 г.                                         г. Красно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Чемпионат и первенство ЮФО, С-КФО среди молодежи (93-95 гг.р.), юниоров (96-97 гг.р.), юношей и девушек (98-99 гг.р.) 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2421000"/>
          <a:ext cx="7499160" cy="3047760"/>
        </p:xfrm>
        <a:graphic>
          <a:graphicData uri="http://schemas.openxmlformats.org/drawingml/2006/table">
            <a:tbl>
              <a:tblPr/>
              <a:tblGrid>
                <a:gridCol w="4329000"/>
                <a:gridCol w="1730520"/>
                <a:gridCol w="143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делег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В. Шемяк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В.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Ф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М. Коломи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Азиз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А.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А. Горбат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5-06-07T07:33:51Z</cp:lastPrinted>
  <dcterms:modified xsi:type="dcterms:W3CDTF">2015-06-07T14:04:21Z</dcterms:modified>
  <cp:revision>27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